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9F30-519B-42FF-B911-35BE0D6F6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AD8F-4CEB-4EAD-A308-17FB34EC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E4F5-516D-4B0C-A2D4-CDE71086F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32CB-A920-4F98-B8D5-A5AF0A485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52FC-EB6A-4A9F-98B5-CFD6E6091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A15C-4037-4D3B-B275-0D90BF78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0334-6E9F-4D10-B0A1-C3684FB4D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9A04-CE18-4B74-831B-E73C3B33F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4A8B-1763-4027-8CD9-55C2BD9A1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E7A9-7D48-4384-A7AF-F86E9EE9E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DE07-9FCC-42DD-AF31-C564C1F12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10D2-4449-43BC-904D-45F4DE8E7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BEFE-DB91-4930-9679-CB8B45C3D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34D5-9BE7-4728-8501-B1ECD497C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5566-98C6-477F-9E16-466F0CE1E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7968-74C9-4BEE-AE54-246330DB8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C8E4-1730-48E4-9FD3-F4E48EFCE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199C-4E19-4EE4-A545-104C19BDD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E39C-1E77-40DC-A53B-49431FB2A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0306-371B-45B5-B754-1E5570506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E41F-E37A-419B-B094-D2B17207B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1615-7989-45A1-9713-E21DD51A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BAA3-36CC-4F2F-B81D-96D92815E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el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sts and Benef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Tra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-1.jpg"/>
          <p:cNvPicPr/>
          <p:nvPr/>
        </p:nvPicPr>
        <p:blipFill>
          <a:blip r:embed="rId1"/>
          <a:stretch/>
        </p:blipFill>
        <p:spPr>
          <a:xfrm>
            <a:off x="2666880" y="3429000"/>
            <a:ext cx="3942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F5A4-83E2-461A-87B8-A4EAC407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Return on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vestment (ROI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omparison of the cost of a training program relative to its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involves dividing the net benefit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urn on Investment =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Benefits-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9DC9-F587-4AA3-951E-7F91B0964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30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ethod to forecast the financial benefits that result from human resource programs such as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481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DEB3-5411-4DA6-8211-D9EDD89BC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factors to consider in calculating the utility of 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0">
              <a:spcBef>
                <a:spcPts val="3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ness (effec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ndard deviation of job performance in dollars of untrained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 employees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ration training benefits will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38ED-B59A-449E-8872-E418E6AC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tility of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U = (T)(N)(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)(SDy) – (N)(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210960" y="3429000"/>
            <a:ext cx="90223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tility, or dollar value of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years the training has a continued effe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people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ffec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deviation of job performance in dollars of the untrained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training each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355B-897A-4AEB-9206-1E0850C7B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reak-even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ding the value at which benefits equal costs and utility is equal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133720" y="3855960"/>
            <a:ext cx="318924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Utility =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7" descr="12-5.jpg"/>
          <p:cNvPicPr/>
          <p:nvPr/>
        </p:nvPicPr>
        <p:blipFill>
          <a:blip r:embed="rId1"/>
          <a:stretch/>
        </p:blipFill>
        <p:spPr>
          <a:xfrm>
            <a:off x="5486400" y="29718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8622-A8A5-4D7B-AD6B-BC37E48E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not an exact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and judgements have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ensure there is credibility in process of determining cost-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clients must perceive benefits estimates as credible, believable, and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need to be wary of promising more than they can realistically deliver; manag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378-DECC-4720-82F4-7875EE899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redibility of benefit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927600" indent="0">
              <a:spcBef>
                <a:spcPts val="349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credible and reli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ain approaches and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must appear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0120" y="5148360"/>
            <a:ext cx="27183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s Notebook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4B42-8CEA-4D96-B496-F7A373D80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stages of the ISD model have now been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elements are identifying, developing, delivering, and evaluating training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manage any of the critical elements will have negative impacts on the training and the achievement of the training relate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DC4B-7567-4600-BA08-94828D2BE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nd approaches for calculating costs and benefits of training programs wer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between cost-effectiveness, cost- benefit analysis  were discussed as were examples of the calculation of costs, benefits, net benefit, BCR and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this information for budgeting and comparing costs, and training evaluation wer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approach - Utility analysis -  wa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redibility when estimating the financial benefits of training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CE2D-EA76-4E64-9EDB-DDDF11A69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rainers should calculate the costs and benefits of training and development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approaches for costing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ce between cost-effectiveness and cost-benefit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alculate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59B8-9EEC-47FC-BC9D-98AD2A62F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onduct a net benefit analysis, benefit-cost ratio, and return on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utility analysis and describe how to calculate the utility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importance of credibility when estimating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9A97-A3AA-496F-8F75-9A2EC5D6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cess of identifying all the expenditures used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ritical element in the ISD model both in the design and evalu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2-2.jpg"/>
          <p:cNvPicPr/>
          <p:nvPr/>
        </p:nvPicPr>
        <p:blipFill>
          <a:blip r:embed="rId1"/>
          <a:stretch/>
        </p:blipFill>
        <p:spPr>
          <a:xfrm>
            <a:off x="5138640" y="2362320"/>
            <a:ext cx="4005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48FC-7498-4075-9DC2-B6426D8D4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Approach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, program development, delivery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nature or kind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cost categories: direct costs, indirect costs, development costs, overhead costs, and trainee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5ECF-B214-4BC8-9392-B45AC70D4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aring the Costs of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ble 12.4 demonstrates some important aspects of costing and comparing training program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ing sheets can be modified to meet an organization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of detail varies according t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choice regarding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cheapes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0DB4-D1E9-4BC6-8DF2-B075F619B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effectiveness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monetary cost of training to the benefit of training in 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benefit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cost of training in monetary terms to the benefits of training in non-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7C1A-A7ED-42E9-BD6A-A7E2CB17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t benefi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estimated value of the performance improvement minus the cost of improv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efit Cost Rati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benefit divided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13D9-2DD0-4FEC-9697-E0CC6A978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have cost effectiveness and want to determine cost benefit.  Will have to convert  measures to monetar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1:  Focus on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2:  Determine a value for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3:  Calculate the change i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4:  Obtain an annual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5:  Determine the annu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 Trainer’s Notebook 12.1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36:25Z</dcterms:modified>
  <cp:revision>376</cp:revision>
  <dc:subject/>
  <dc:title>Ch 12</dc:title>
</cp:coreProperties>
</file>